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6E5F5-0E69-4DE8-B73A-7D3C7AC33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D7B2D-B0C2-45A5-ACC4-54CBFDC2A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CDA71-8594-47EE-AC83-A9D1DD365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DA2FD-7ABA-47F8-80B1-36C17E350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00E7A-6607-435D-AEA5-213133F02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E716A-AD7C-40AF-929F-B9E0FAD18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C5B1F-6DE6-493F-9D81-C2EEDFB11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9B01A-0F21-4A0B-8110-58A60879A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D196D-7D9C-4DD2-AE3C-1DBACBF12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2A71F-3CA7-4B80-BAE4-737F7F019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3ADAC-F845-4A3D-A599-4EB7601C9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F1527-E1CA-4848-9996-07D3D1788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DB2F0-2C33-4643-8D25-F3E1D50337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freeplaymusic.com/search/category_search.php?t=f&amp;i=6" TargetMode="Externa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hyperlink" Target="http://inventors.about.com/gi/dynamic/offsite.htm?site=http://web.archive.org/web/20020601192140/http://collections.ic.gc.ca/naismith/" TargetMode="External"/><Relationship Id="rId4" Type="http://schemas.openxmlformats.org/officeDocument/2006/relationships/image" Target="../media/image5.jpeg"/><Relationship Id="rId5" Type="http://schemas.openxmlformats.org/officeDocument/2006/relationships/hyperlink" Target="http://inventors.about.com/gi/dynamic/offsite.htm?site=http://web.archive.org/web/20020601192140/http://collections.ic.gc.ca/naismith/" TargetMode="External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685800" y="1066680"/>
            <a:ext cx="7543800" cy="289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3d4a8">
                        <a:alpha val="50196"/>
                      </a:srgbClr>
                    </a:gs>
                    <a:gs pos="100000">
                      <a:srgbClr val="005cbf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Bernard MT Condensed"/>
              </a:rPr>
              <a:t>Basketball</a:t>
            </a:r>
            <a:endParaRPr b="0" lang="en-US" sz="4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3d4a8">
                      <a:alpha val="50196"/>
                    </a:srgbClr>
                  </a:gs>
                  <a:gs pos="100000">
                    <a:srgbClr val="005cbf"/>
                  </a:gs>
                </a:gsLst>
                <a:lin ang="540000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Bernard MT Condensed"/>
              <a:ea typeface="Bernard MT Condensed"/>
            </a:endParaRPr>
          </a:p>
        </p:txBody>
      </p:sp>
      <p:sp>
        <p:nvSpPr>
          <p:cNvPr id="42" name=""/>
          <p:cNvSpPr/>
          <p:nvPr/>
        </p:nvSpPr>
        <p:spPr>
          <a:xfrm>
            <a:off x="6019920" y="4876920"/>
            <a:ext cx="27432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e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ch 9,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iod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er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952880"/>
            <a:ext cx="5410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und: Free Play Music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Highway Five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arch 11, 2010,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freeplaymusic.com/search/category_search.php?t=f&amp;i=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1219320" y="4221000"/>
            <a:ext cx="609480" cy="4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30168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James Niasmith Photo"/>
          <p:cNvPicPr/>
          <p:nvPr/>
        </p:nvPicPr>
        <p:blipFill>
          <a:blip r:embed="rId2"/>
          <a:stretch/>
        </p:blipFill>
        <p:spPr>
          <a:xfrm>
            <a:off x="457200" y="380880"/>
            <a:ext cx="3962520" cy="29368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4648320" y="1752480"/>
            <a:ext cx="449568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out.com,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Dr. James Naismith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ch 9, 2010,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inventors.about.com/gi/dynamic/offsite.htm?site=http://web.archive.org/web/20020601192140/http://collections.ic.gc.ca/naismith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724280" y="609480"/>
            <a:ext cx="3810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This is a picture of James Naismith. He invented the game of basketball in 189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Peach Basket"/>
          <p:cNvPicPr/>
          <p:nvPr/>
        </p:nvPicPr>
        <p:blipFill>
          <a:blip r:embed="rId4"/>
          <a:stretch/>
        </p:blipFill>
        <p:spPr>
          <a:xfrm>
            <a:off x="380880" y="3733920"/>
            <a:ext cx="2590920" cy="16002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57200" y="5529240"/>
            <a:ext cx="815328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out.com,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The Birth of a New Game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arch 9, 2010,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inventors.about.com/gi/dynamic/offsite.htm?site=http://web.archive.org/web/20020601192140/http://collections.ic.gc.ca/naismith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76720" y="3733920"/>
            <a:ext cx="25905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These are the materials you might need to play basketball in the old day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6"/>
          <a:stretch/>
        </p:blipFill>
        <p:spPr>
          <a:xfrm>
            <a:off x="6324480" y="3581280"/>
            <a:ext cx="1714680" cy="17146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7924680" y="4648320"/>
            <a:ext cx="99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pa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Invention: Basketb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Berlin Sans FB"/>
              </a:rPr>
              <a:t>After basketball was invented by James Naismith, the popularity of the sport spread quickly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Berlin Sans FB"/>
              </a:rPr>
              <a:t>Naismith taught his class to play the game by dividing them into two teams of nine and tossing a soccer ball into peach baskets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Berlin Sans FB"/>
              </a:rPr>
              <a:t>The first official basketball arrived in 1909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Berlin Sans FB"/>
              </a:rPr>
              <a:t>Today, basketball is less brutal than it was in its early days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Berlin Sans FB"/>
              </a:rPr>
              <a:t>It is now played by 5 players at each team on the court at a time instead of 9 players on each team playing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7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2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7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2" dur="5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7" dur="5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Inventor: James Naismi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Berlin Sans FB"/>
              </a:rPr>
              <a:t>James Naismith was born on November 6</a:t>
            </a:r>
            <a:r>
              <a:rPr b="0" lang="en-US" sz="2700" spc="-1" strike="noStrike" baseline="30000">
                <a:solidFill>
                  <a:srgbClr val="000000"/>
                </a:solidFill>
                <a:latin typeface="Berlin Sans FB"/>
              </a:rPr>
              <a:t>th</a:t>
            </a:r>
            <a:r>
              <a:rPr b="0" lang="en-US" sz="2700" spc="-1" strike="noStrike">
                <a:solidFill>
                  <a:srgbClr val="000000"/>
                </a:solidFill>
                <a:latin typeface="Berlin Sans FB"/>
              </a:rPr>
              <a:t>, 1861 in Almonte, Ontario, Canada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Berlin Sans FB"/>
              </a:rPr>
              <a:t>He was an outstanding athlete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Berlin Sans FB"/>
              </a:rPr>
              <a:t>When he entered McGill University in Montreal, he excelled in rugby and gymnastics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Berlin Sans FB"/>
              </a:rPr>
              <a:t>He was a P.E. director and he taught classes and participated in sports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Berlin Sans FB"/>
              </a:rPr>
              <a:t>James was in charge of coming up with new athletic games for children when he came up with basketball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0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5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0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5" dur="5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0" dur="5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8T14:15:02Z</dcterms:created>
  <dc:creator>install</dc:creator>
  <dc:description/>
  <dc:language>en-US</dc:language>
  <cp:lastModifiedBy>install</cp:lastModifiedBy>
  <dcterms:modified xsi:type="dcterms:W3CDTF">2010-03-18T13:41:10Z</dcterms:modified>
  <cp:revision>8</cp:revision>
  <dc:subject/>
  <dc:title>Slide 1</dc:title>
</cp:coreProperties>
</file>